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11F-9913-46D3-805B-F07822B1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126-570A-4282-B5C3-E3C956E9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541-2F52-497C-8D9E-C089D214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86B-49D6-442C-A396-2062996D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9C95-B1BC-4E47-9E99-5060756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2BA0-7EA7-4D3B-9220-EF961414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C062-0406-4551-8290-28DC8ADB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3AC-5F08-4C6E-9FFB-921A98A2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B9BA-17A6-4541-964F-03DFC140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E2DC-292C-4F93-B292-2C69B302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F9A-EE99-4C05-AA0F-AD790FF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BD2-0A7C-4C02-A6E8-52B2F28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6E96-EBFA-4736-8E97-011EEF7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EEFD-0D4A-4D87-B280-E42C4CE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49F3-F2EF-4087-A56A-B96580B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807-3AC6-44F2-A2AE-F9AE274F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1C36-F167-4803-B056-D592ACA1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3F0-DDC2-4DEC-B4ED-D96EE9E5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674-DA98-4E0F-89A8-3146A39A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216-9348-4117-8BEC-28D221F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04E-4F6A-448C-B24B-37BD1B35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FDA-EE88-49A0-9713-07E8860F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55A-5523-4E01-81A7-D39D991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D01-3F2D-4455-B35B-469F4BE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6B3-B865-430D-BCFD-CFD947CC0691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7F48-39A6-4A05-A46A-C4BD09B4E18F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ahoma"/>
              </a:rPr>
              <a:t>A Logística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108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E035-8392-437F-944B-DDC28F26BD11}" type="slidenum">
              <a:t>1</a:t>
            </a:fld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omponentes do Sistema Logí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ahoma"/>
              </a:rPr>
              <a:t>ADMINISTRAÇÃO E FINANÇ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RP - Enterprise Resources Plan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luxo de caix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role do investimento em ativ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ganiz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r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vos proje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ábrica exist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F20-A166-45CE-ABA0-4C18A76D4355}" type="slidenum">
              <a:t>10</a:t>
            </a:fld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omponentes do Sistema Logí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ahoma"/>
              </a:rPr>
              <a:t>DISTRIBUIÇÃO FÍS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lização da fábr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pósitos regiona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entá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e intermod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os de Pesquisa Operac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ftwares dedic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ios físicos de transpor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CFF-B270-4DA1-95BC-5FE76FF66B89}" type="slidenum">
              <a:t>11</a:t>
            </a:fld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60" y="1085760"/>
            <a:ext cx="8757000" cy="4804560"/>
            <a:chOff x="9360" y="1085760"/>
            <a:chExt cx="8757000" cy="4804560"/>
          </a:xfrm>
        </p:grpSpPr>
        <p:graphicFrame>
          <p:nvGraphicFramePr>
            <p:cNvPr id="276" name=""/>
            <p:cNvGraphicFramePr/>
            <p:nvPr/>
          </p:nvGraphicFramePr>
          <p:xfrm>
            <a:off x="1676520" y="1260360"/>
            <a:ext cx="5943600" cy="414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260360"/>
                      <a:ext cx="5943600" cy="41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2714760" y="3848040"/>
              <a:ext cx="94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ntreg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iret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2343240"/>
              <a:ext cx="94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ntreg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lient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1080" y="1600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Retrabalh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31080" y="2362320"/>
              <a:ext cx="173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ntregas c/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argas parcelad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29720" y="3825720"/>
              <a:ext cx="173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ntregas c/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argas parcelad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4080" y="121932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Retorn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0080" y="306720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ntregas c/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70360" y="335268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arga chei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895480"/>
              <a:ext cx="2000160" cy="952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24480" y="1085760"/>
              <a:ext cx="1619280" cy="800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62640" y="4838760"/>
              <a:ext cx="1619280" cy="7999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40400" y="1295280"/>
              <a:ext cx="141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Intermediári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71360" y="2990880"/>
              <a:ext cx="2438280" cy="838080"/>
              <a:chOff x="171360" y="2990880"/>
              <a:chExt cx="2438280" cy="838080"/>
            </a:xfrm>
          </p:grpSpPr>
          <p:sp>
            <p:nvSpPr>
              <p:cNvPr id="291" name=""/>
              <p:cNvSpPr/>
              <p:nvPr/>
            </p:nvSpPr>
            <p:spPr>
              <a:xfrm>
                <a:off x="171360" y="2990880"/>
                <a:ext cx="2438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66640" y="3067200"/>
                <a:ext cx="1086120" cy="68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ecfe"/>
                  </a:gs>
                  <a:gs pos="100000">
                    <a:srgbClr val="33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40458c"/>
                    </a:solidFill>
                    <a:latin typeface="Arial"/>
                  </a:rPr>
                  <a:t>estoque de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40458c"/>
                    </a:solidFill>
                    <a:latin typeface="Arial"/>
                  </a:rPr>
                  <a:t>produto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40458c"/>
                    </a:solidFill>
                    <a:latin typeface="Arial"/>
                  </a:rPr>
                  <a:t>acabado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3067200"/>
                <a:ext cx="1085760" cy="68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ecfe"/>
                  </a:gs>
                  <a:gs pos="100000">
                    <a:srgbClr val="33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40458c"/>
                    </a:solidFill>
                    <a:latin typeface="Arial"/>
                  </a:rPr>
                  <a:t>FÁBRICA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6454800" y="4876920"/>
              <a:ext cx="150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nsumidor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finais ou outr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mpanhi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33840" y="312408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epósit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regionai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360" y="5553000"/>
              <a:ext cx="3330720" cy="33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O Caminho da distribuição físic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38840" y="52196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Retorn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9B6-0BD3-483F-AF27-FB2F4FF1D200}" type="slidenum">
              <a:t>12</a:t>
            </a:fld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5800" y="1600200"/>
            <a:ext cx="7467480" cy="4038480"/>
            <a:chOff x="685800" y="1600200"/>
            <a:chExt cx="7467480" cy="4038480"/>
          </a:xfrm>
        </p:grpSpPr>
        <p:sp>
          <p:nvSpPr>
            <p:cNvPr id="300" name=""/>
            <p:cNvSpPr/>
            <p:nvPr/>
          </p:nvSpPr>
          <p:spPr>
            <a:xfrm>
              <a:off x="1066680" y="291456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Fornece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373392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Fábrica 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510552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Fornece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33336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Fábrica 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1320" y="182880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Fornece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62520" y="2590920"/>
              <a:ext cx="1295280" cy="6094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Centro d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distribui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1600200"/>
              <a:ext cx="914400" cy="8380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5520" y="4800600"/>
              <a:ext cx="914400" cy="8380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29400" y="4191120"/>
              <a:ext cx="914400" cy="8380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371240" y="3390840"/>
              <a:ext cx="228600" cy="30492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1447560" y="4266720"/>
              <a:ext cx="1066680" cy="83844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200400" y="3752640"/>
              <a:ext cx="3733920" cy="152388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838080" cy="99072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81480" y="3200400"/>
              <a:ext cx="1600200" cy="106668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3200400"/>
              <a:ext cx="533520" cy="160020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295600" y="2990880"/>
              <a:ext cx="1676520" cy="38088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905120" y="2971440"/>
              <a:ext cx="1981080" cy="106668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0" y="3124080"/>
              <a:ext cx="4648320" cy="53352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3504960" y="2209320"/>
              <a:ext cx="533160" cy="38124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1A3-2329-4C00-9E4D-DBDF8AE32CD9}" type="slidenum">
              <a:t>13</a:t>
            </a:fld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004760" y="990720"/>
            <a:ext cx="6995160" cy="5711400"/>
            <a:chOff x="1004760" y="990720"/>
            <a:chExt cx="6995160" cy="5711400"/>
          </a:xfrm>
        </p:grpSpPr>
        <p:graphicFrame>
          <p:nvGraphicFramePr>
            <p:cNvPr id="321" name=""/>
            <p:cNvGraphicFramePr/>
            <p:nvPr/>
          </p:nvGraphicFramePr>
          <p:xfrm>
            <a:off x="1585800" y="1139760"/>
            <a:ext cx="5981760" cy="556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85800" y="1139760"/>
                      <a:ext cx="598176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"/>
            <p:cNvSpPr/>
            <p:nvPr/>
          </p:nvSpPr>
          <p:spPr>
            <a:xfrm>
              <a:off x="1433160" y="990720"/>
              <a:ext cx="155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40458c"/>
                  </a:solidFill>
                  <a:latin typeface="Arial"/>
                </a:rPr>
                <a:t>a) Navio graneleir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40458c"/>
                  </a:solidFill>
                  <a:latin typeface="Arial"/>
                </a:rPr>
                <a:t>Guindast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34240" y="2133360"/>
              <a:ext cx="192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40458c"/>
                  </a:solidFill>
                  <a:latin typeface="Arial"/>
                </a:rPr>
                <a:t>b) Cruzeiro de uso gera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40458c"/>
                  </a:solidFill>
                  <a:latin typeface="Arial"/>
                </a:rPr>
                <a:t>Guindast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27400" y="4216320"/>
              <a:ext cx="227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40458c"/>
                  </a:solidFill>
                  <a:latin typeface="Arial"/>
                </a:rPr>
                <a:t>c) Navio de passageir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40458c"/>
                  </a:solidFill>
                  <a:latin typeface="Arial"/>
                </a:rPr>
                <a:t>Elevadores e escadas rolant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73920" y="990720"/>
              <a:ext cx="153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40458c"/>
                  </a:solidFill>
                  <a:latin typeface="Arial"/>
                </a:rPr>
                <a:t>d) Navio frigorífic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40458c"/>
                  </a:solidFill>
                  <a:latin typeface="Arial"/>
                </a:rPr>
                <a:t>Guindast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3040" y="304488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40458c"/>
                  </a:solidFill>
                  <a:latin typeface="Arial"/>
                </a:rPr>
                <a:t>e) </a:t>
              </a:r>
              <a:r>
                <a:rPr b="1" i="1" lang="pt-BR" sz="1200" spc="-1" strike="noStrike">
                  <a:solidFill>
                    <a:srgbClr val="40458c"/>
                  </a:solidFill>
                  <a:latin typeface="Arial"/>
                </a:rPr>
                <a:t>Roll on - Roll of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76840" y="4987800"/>
              <a:ext cx="2072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40458c"/>
                  </a:solidFill>
                  <a:latin typeface="Arial"/>
                </a:rPr>
                <a:t>f) Navio porta-contêine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40458c"/>
                  </a:solidFill>
                  <a:latin typeface="Arial"/>
                </a:rPr>
                <a:t>Guindast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42720" y="5245200"/>
              <a:ext cx="1046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Equipament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de amarraçã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95480" y="5359320"/>
              <a:ext cx="1308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Equipamento d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movimentação d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bagagens e provisõ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99120" y="1216080"/>
              <a:ext cx="874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Cobertur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dos porõe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5560" y="2368440"/>
              <a:ext cx="1046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Equipament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de amarraçã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03320" y="3578040"/>
              <a:ext cx="1537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Cobertura dos porõe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93240" y="2448000"/>
              <a:ext cx="67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Control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de carg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13120" y="2502000"/>
              <a:ext cx="1486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Porões de carga latera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03040" y="2800440"/>
              <a:ext cx="119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Câmaras isolada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82600" y="3197160"/>
              <a:ext cx="144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Porta e rampa da pro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68280" y="3381480"/>
              <a:ext cx="13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Porta interna da pro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35600" y="356220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Provisõ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11720" y="4187880"/>
              <a:ext cx="117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Rampa elevador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21080" y="4359240"/>
              <a:ext cx="131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Cobertura da ramp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05640" y="4397400"/>
              <a:ext cx="94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Elevador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para pessoa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00600" y="4591080"/>
              <a:ext cx="914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Portas de controle de inundação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86480" y="44193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Portas laterai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4000" y="4140000"/>
              <a:ext cx="6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Elevador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de carga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6520" y="6397560"/>
              <a:ext cx="205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40458c"/>
                  </a:solidFill>
                  <a:latin typeface="Arial"/>
                </a:rPr>
                <a:t>Cobertura dos porõe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62320" y="587376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40458c"/>
                  </a:solidFill>
                  <a:latin typeface="Arial"/>
                </a:rPr>
                <a:t>Câmaras frigorífica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76280" y="5683320"/>
              <a:ext cx="1809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Armazenagem de provisõ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04760" y="5445000"/>
              <a:ext cx="1809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40458c"/>
                  </a:solidFill>
                  <a:latin typeface="Arial"/>
                </a:rPr>
                <a:t>Equipamento ar-condicionado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C15-C00D-4EA7-BF3D-8427B5569580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3520" y="1295280"/>
          <a:ext cx="81532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1532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240" y="4800600"/>
            <a:ext cx="2930040" cy="337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Vagões de Cargas Especia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29B-D4DF-4612-B9C0-67C91482F291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368360"/>
          <a:ext cx="739152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68360"/>
                    <a:ext cx="739152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840" y="5133960"/>
            <a:ext cx="3896280" cy="580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igura 14.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isposição de carga em um 747 Carg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6CE-E3B5-405D-B416-3784251E5357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52280" y="1752480"/>
          <a:ext cx="8686800" cy="32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68680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6840" y="5133960"/>
            <a:ext cx="3896280" cy="580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igura 14.1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isposição de carga em um 747 Carg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343-4C60-4D0B-BB2C-81C232D24D2D}" type="slidenum">
              <a:t>17</a:t>
            </a:fld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Distribuição Fí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914400" y="1604880"/>
          <a:ext cx="7543800" cy="38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4880"/>
                    <a:ext cx="754380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4320" y="5133960"/>
            <a:ext cx="2523240" cy="580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igura 14.1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ntêineres para aviõ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29A-B2D5-46BA-9B10-59963D89F8B5}" type="slidenum">
              <a:t>18</a:t>
            </a:fld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ahoma"/>
              </a:rPr>
              <a:t>Lead Ti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46120" y="819000"/>
            <a:ext cx="7835760" cy="5454720"/>
            <a:chOff x="546120" y="819000"/>
            <a:chExt cx="7835760" cy="5454720"/>
          </a:xfrm>
        </p:grpSpPr>
        <p:graphicFrame>
          <p:nvGraphicFramePr>
            <p:cNvPr id="368" name=""/>
            <p:cNvGraphicFramePr/>
            <p:nvPr/>
          </p:nvGraphicFramePr>
          <p:xfrm>
            <a:off x="914400" y="990720"/>
            <a:ext cx="7467480" cy="528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990720"/>
                      <a:ext cx="7467480" cy="528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1352520" y="2603520"/>
              <a:ext cx="1143000" cy="5335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Trabalh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ta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81360" y="2565360"/>
              <a:ext cx="1219320" cy="5335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Trabalh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nfirma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67080" y="2336760"/>
              <a:ext cx="1219320" cy="10666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Arquiv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edidos-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trabalh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n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libera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9480" y="2641680"/>
              <a:ext cx="91440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40458c"/>
                  </a:solidFill>
                  <a:latin typeface="Arial"/>
                </a:rPr>
                <a:t>Backlo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liberad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48440" y="2679840"/>
              <a:ext cx="590760" cy="4190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Fil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7920" y="4737240"/>
              <a:ext cx="102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Temp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t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55400" y="3803760"/>
              <a:ext cx="122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40458c"/>
                  </a:solidFill>
                  <a:latin typeface="Arial"/>
                </a:rPr>
                <a:t>Lead tim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e oper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4200" y="428004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Atras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arquiv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19040" y="4317840"/>
              <a:ext cx="188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Tempo de execu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no chão de fábric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54440" y="473724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40458c"/>
                  </a:solidFill>
                  <a:latin typeface="Arial"/>
                </a:rPr>
                <a:t>Lead tim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e materi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01960" y="4927680"/>
              <a:ext cx="271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40458c"/>
                  </a:solidFill>
                  <a:latin typeface="Arial"/>
                </a:rPr>
                <a:t>Lead time</a:t>
              </a: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 total de manufatur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12920" y="5403960"/>
              <a:ext cx="304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40458c"/>
                  </a:solidFill>
                  <a:latin typeface="Arial"/>
                </a:rPr>
                <a:t>LEAD TIME </a:t>
              </a: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 TOTAL DE ENTREG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47240" y="591804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ntreg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02960" y="876240"/>
              <a:ext cx="102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ron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na fábric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31320" y="895320"/>
              <a:ext cx="102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Liber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ara linh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08120" y="895320"/>
              <a:ext cx="102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Liber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/ P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16720" y="81900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Rejeita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6120" y="819000"/>
              <a:ext cx="101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edi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o client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A2E-CA8E-46CF-A7DC-DD8862F57ADC}" type="slidenum">
              <a:t>19</a:t>
            </a:fld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A Logís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ontos principai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Área come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ábr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rc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necedor ou parceiro come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portad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0A1-9DB7-4A51-AA22-4593DA40FAC9}" type="slidenum">
              <a:t>2</a:t>
            </a:fld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Indicadores de Desempenh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chmar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ustos da cadeia logístic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stos de suprimen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stos de manter estoques, instalaçõ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stos operaciona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sto total de inventá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stos de oportunida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stos de transporte, de produção, de documentação, de pesso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4EB-CD10-484D-BAF7-B8408FB02CD8}" type="slidenum">
              <a:t>20</a:t>
            </a:fld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Indicadores de Desempenh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as exequíve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dicadores úte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primen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ufa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ribui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8BC-5648-4D7D-A3E6-700EEEA95E46}" type="slidenum">
              <a:t>21</a:t>
            </a:fld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adeias Logí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990720" y="2057400"/>
          <a:ext cx="716256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1625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"/>
          <p:cNvGrpSpPr/>
          <p:nvPr/>
        </p:nvGrpSpPr>
        <p:grpSpPr>
          <a:xfrm>
            <a:off x="198720" y="2247840"/>
            <a:ext cx="8633160" cy="2824200"/>
            <a:chOff x="198720" y="2247840"/>
            <a:chExt cx="8633160" cy="2824200"/>
          </a:xfrm>
        </p:grpSpPr>
        <p:graphicFrame>
          <p:nvGraphicFramePr>
            <p:cNvPr id="396" name=""/>
            <p:cNvGraphicFramePr/>
            <p:nvPr/>
          </p:nvGraphicFramePr>
          <p:xfrm>
            <a:off x="1066680" y="4443480"/>
            <a:ext cx="685800" cy="62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4443480"/>
                      <a:ext cx="68580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7010280" y="4538520"/>
            <a:ext cx="609840" cy="435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10280" y="4538520"/>
                      <a:ext cx="609840" cy="4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"/>
            <p:cNvGraphicFramePr/>
            <p:nvPr/>
          </p:nvGraphicFramePr>
          <p:xfrm>
            <a:off x="3505320" y="4443480"/>
            <a:ext cx="685800" cy="628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5320" y="4443480"/>
                      <a:ext cx="68580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6172200" y="4443480"/>
            <a:ext cx="685800" cy="628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72200" y="4443480"/>
                      <a:ext cx="68580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198720" y="4575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40458c"/>
                  </a:solidFill>
                  <a:latin typeface="Arial"/>
                </a:rPr>
                <a:t>Visã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98560" y="4424400"/>
              <a:ext cx="146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40458c"/>
                  </a:solidFill>
                  <a:latin typeface="Arial"/>
                </a:rPr>
                <a:t>Estratégi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40458c"/>
                  </a:solidFill>
                  <a:latin typeface="Arial"/>
                </a:rPr>
                <a:t>operacion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37560" y="4576680"/>
              <a:ext cx="18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40458c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35320" y="441972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40458c"/>
                  </a:solidFill>
                  <a:latin typeface="Arial"/>
                </a:rPr>
                <a:t>Valor d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40458c"/>
                  </a:solidFill>
                  <a:latin typeface="Arial"/>
                </a:rPr>
                <a:t>negóci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5715000" y="3048120"/>
              <a:ext cx="213372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Operar localmente</a:t>
              </a:r>
              <a:endPara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1371600" y="3086280"/>
              <a:ext cx="213372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Pensar globalmente</a:t>
              </a:r>
              <a:endPara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3638520" y="2247840"/>
              <a:ext cx="1895400" cy="381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Fazer regionalmente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BC2-5DA7-4E33-8C33-CF2504AD7BD3}" type="slidenum">
              <a:t>22</a:t>
            </a:fld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A Logís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295280"/>
            <a:ext cx="8058240" cy="4800600"/>
            <a:chOff x="380880" y="1295280"/>
            <a:chExt cx="8058240" cy="4800600"/>
          </a:xfrm>
        </p:grpSpPr>
        <p:graphicFrame>
          <p:nvGraphicFramePr>
            <p:cNvPr id="214" name=""/>
            <p:cNvGraphicFramePr/>
            <p:nvPr/>
          </p:nvGraphicFramePr>
          <p:xfrm>
            <a:off x="1657440" y="1295280"/>
            <a:ext cx="5562360" cy="444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57440" y="1295280"/>
                      <a:ext cx="5562360" cy="444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09720" y="5714640"/>
              <a:ext cx="1219320" cy="3812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apacida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86240" y="5505120"/>
              <a:ext cx="1218960" cy="3812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Fornecedor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6120" y="4952880"/>
              <a:ext cx="1619280" cy="399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Abastecimen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52920" y="373356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stoque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mponent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1800" y="373356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Estoque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mponent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1520" y="2323800"/>
              <a:ext cx="914400" cy="3812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PC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232380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revis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e venda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19800" y="236196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232380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Montage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1447560"/>
              <a:ext cx="121896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epósit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de acaba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67120" y="2971440"/>
              <a:ext cx="12193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Produçã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Arial"/>
                </a:rPr>
                <a:t>component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562200" y="3428280"/>
              <a:ext cx="304920" cy="304920"/>
            </a:xfrm>
            <a:prstGeom prst="line">
              <a:avLst/>
            </a:prstGeom>
            <a:ln w="38160">
              <a:solidFill>
                <a:srgbClr val="b7c1e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57840" y="3428640"/>
              <a:ext cx="304560" cy="228600"/>
            </a:xfrm>
            <a:prstGeom prst="line">
              <a:avLst/>
            </a:prstGeom>
            <a:ln w="381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72440" y="1981080"/>
              <a:ext cx="304560" cy="228600"/>
            </a:xfrm>
            <a:prstGeom prst="line">
              <a:avLst/>
            </a:prstGeom>
            <a:ln w="381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019920" y="1962000"/>
              <a:ext cx="304560" cy="304560"/>
            </a:xfrm>
            <a:prstGeom prst="line">
              <a:avLst/>
            </a:prstGeom>
            <a:ln w="38160">
              <a:solidFill>
                <a:srgbClr val="b7c1e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450-03DD-4353-BCF2-E18728284E8D}" type="slidenum">
              <a:t>3</a:t>
            </a:fld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A Logís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160" y="1371600"/>
            <a:ext cx="9277200" cy="3276720"/>
            <a:chOff x="38160" y="1371600"/>
            <a:chExt cx="9277200" cy="3276720"/>
          </a:xfrm>
        </p:grpSpPr>
        <p:sp>
          <p:nvSpPr>
            <p:cNvPr id="233" name=""/>
            <p:cNvSpPr/>
            <p:nvPr/>
          </p:nvSpPr>
          <p:spPr>
            <a:xfrm>
              <a:off x="38160" y="1771920"/>
              <a:ext cx="3181320" cy="243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920" y="1849680"/>
              <a:ext cx="1544760" cy="23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PRODU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Controle d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qualidad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Planejamen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talhad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Manutenção d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equipamen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Manusei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intern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73200" y="1828800"/>
              <a:ext cx="17985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Atividades d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       </a:t>
              </a: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interface: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Programa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a produ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Localiza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industria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Supriment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7280" y="1676520"/>
              <a:ext cx="3200400" cy="2666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1040" y="1784520"/>
              <a:ext cx="166068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Atividades de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        </a:t>
              </a: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interface: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Padrões nívei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 serviç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Formação de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preç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Embalage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Localização de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pósit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16800" y="1749600"/>
              <a:ext cx="17985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MARKETING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Promoção /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Propagand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produ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Pesquisa de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mercad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- Administra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a força de 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vend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8080" y="1973520"/>
              <a:ext cx="15721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58c"/>
                  </a:solidFill>
                  <a:latin typeface="Times New Roman"/>
                </a:rPr>
                <a:t>LOGÍSTIC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Atividades típicas: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- Manutençã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estoqu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- Processamento 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pedido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- Armazenage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- Manuseio d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40458c"/>
                  </a:solidFill>
                  <a:latin typeface="Times New Roman"/>
                </a:rPr>
                <a:t>materiai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42960" y="1371600"/>
              <a:ext cx="5867640" cy="327672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085760" y="4343400"/>
              <a:ext cx="228600" cy="152640"/>
            </a:xfrm>
            <a:prstGeom prst="line">
              <a:avLst/>
            </a:prstGeom>
            <a:ln w="38160">
              <a:solidFill>
                <a:srgbClr val="b7c1e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7562520" y="4419360"/>
              <a:ext cx="228600" cy="152280"/>
            </a:xfrm>
            <a:prstGeom prst="line">
              <a:avLst/>
            </a:prstGeom>
            <a:ln w="38160">
              <a:solidFill>
                <a:srgbClr val="b7c1e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8280" y="4983120"/>
            <a:ext cx="3545640" cy="337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s Interfaces do Sistema 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12B-DE7C-436B-B5AB-99969839BF77}" type="slidenum">
              <a:t>4</a:t>
            </a:fld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Pontos Básicos da Logís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520" y="1371600"/>
            <a:ext cx="8983080" cy="4138200"/>
            <a:chOff x="2520" y="1371600"/>
            <a:chExt cx="8983080" cy="4138200"/>
          </a:xfrm>
        </p:grpSpPr>
        <p:graphicFrame>
          <p:nvGraphicFramePr>
            <p:cNvPr id="246" name=""/>
            <p:cNvGraphicFramePr/>
            <p:nvPr/>
          </p:nvGraphicFramePr>
          <p:xfrm>
            <a:off x="1452240" y="1652400"/>
            <a:ext cx="2838600" cy="361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2240" y="1652400"/>
                      <a:ext cx="2838600" cy="36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5038560" y="1614600"/>
            <a:ext cx="3006720" cy="373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8560" y="1614600"/>
                      <a:ext cx="3006720" cy="37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4200480" y="3024000"/>
            <a:ext cx="928440" cy="99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00480" y="3024000"/>
                      <a:ext cx="9284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2" name=""/>
            <p:cNvSpPr/>
            <p:nvPr/>
          </p:nvSpPr>
          <p:spPr>
            <a:xfrm>
              <a:off x="2339280" y="137160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Otimiza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77640" y="1371600"/>
              <a:ext cx="30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Otimização externa (indústria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14680" y="3367080"/>
              <a:ext cx="187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Logística a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nível de armazé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0" y="188100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Fornece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720" y="2916000"/>
              <a:ext cx="1328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Centro d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distribuiçã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8280" y="3938400"/>
              <a:ext cx="13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Atacadist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80" y="4929120"/>
              <a:ext cx="171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Lojas/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Arial"/>
                </a:rPr>
                <a:t>Supermerc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840" y="5487840"/>
            <a:ext cx="3096000" cy="337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Logística ao Nível do Mercad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628-96B5-4189-A3F1-C823018F494D}" type="slidenum">
              <a:t>5</a:t>
            </a:fld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adeia Estratégica do Sistema Logí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600200"/>
          <a:ext cx="7086600" cy="36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08660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280" y="5332320"/>
            <a:ext cx="4086720" cy="337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deia Estratégica do Sistema 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B76-9BAE-498E-BA92-98E09F54670D}" type="slidenum">
              <a:t>6</a:t>
            </a:fld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omponentes do Sistema Logí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ahoma"/>
              </a:rPr>
              <a:t>ÁREA COME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or = desempenho / cu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l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fiabil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tenibil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mpo de entrega ou lead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67D-46E0-473A-BA46-7B21F937E4BA}" type="slidenum">
              <a:t>7</a:t>
            </a:fld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omponentes do Sistema Logí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ahoma"/>
              </a:rPr>
              <a:t>OPERAÇÃO INDUST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T , TQC , TPM , MRP I ,MRP II, Simul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T automatizada flexí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T automatizada focaliza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T manual focaliza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T manual flexí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9AF-B4BF-48E2-B9F4-8BD93B333D03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Componentes do Sistema Logí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ahoma"/>
              </a:rPr>
              <a:t>FORNECEDO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Parceiros operacionai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Relacionamento abert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Fornecedor preferencial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Novas formas de associaçã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Keiretsu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Consórcio modular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Novo conceito de relacionamento: informática, custo ABC, ISO, blocos econômic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urício Kuehne Jún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CAA-0D60-48A1-AE46-1DB858812252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4T12:14:21Z</dcterms:created>
  <dc:creator>Darrell E. Owen</dc:creator>
  <dc:description/>
  <dc:language>en-US</dc:language>
  <cp:lastModifiedBy>Mauricio Kuehne Jr.</cp:lastModifiedBy>
  <cp:lastPrinted>1998-12-16T02:16:12Z</cp:lastPrinted>
  <dcterms:modified xsi:type="dcterms:W3CDTF">2001-08-26T22:30:36Z</dcterms:modified>
  <cp:revision>1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rowen@usaid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ocuments\rowen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